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354-360F-44AA-B8C6-D41CC139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1CF-8651-4810-9BEF-8EAAAB2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907-95A4-499C-96ED-D7B3636A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6BD-8F83-4D8F-99EE-BB9B1EAC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2D9-05B3-4E72-B732-A38833E7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F8F-6B0C-49BE-911A-1C675EDB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C25-3A51-43D1-BD71-02871A0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E26-242A-49DD-92A6-3BAAE60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C8F-50D2-4FC6-89F3-EAFE2891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E33-E645-4080-B30F-CAD71DC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A13-7C9E-469C-876C-BCCB4CC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CB4-FDCF-4418-82F2-500BF83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DD0E-EBC6-4619-97A0-184D486FFE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6920" y="5013000"/>
            <a:ext cx="4678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Ruqah2 Normal"/>
              </a:rPr>
              <a:t>أصلي حب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3924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ل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خوف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شتي وابتعادي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0"/>
            <a:ext cx="356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د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غمرني واملأ فؤاد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0" y="2707920"/>
            <a:ext cx="5796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ع إليك في لوع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سمةٍ من شفت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بُ منكَ أهربُ إليكَ فشدَّني بجناحيك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07920"/>
            <a:ext cx="594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ُنشِدُ الدفءَ معك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دغدغ بلمسِك أجفا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رتاح إليك فضم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ئلا أفلت من يديك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15:47Z</dcterms:created>
  <dc:creator>Charbel Azar</dc:creator>
  <dc:description/>
  <dc:language>en-US</dc:language>
  <cp:lastModifiedBy>-</cp:lastModifiedBy>
  <dcterms:modified xsi:type="dcterms:W3CDTF">2003-01-20T15:53:38Z</dcterms:modified>
  <cp:revision>11</cp:revision>
  <dc:subject/>
  <dc:title>أصلي حبك يا ربي</dc:title>
</cp:coreProperties>
</file>